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723-83EE-4130-B256-FEA67063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6B1-22C2-4DF2-9321-FA489758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BB3-E356-44D2-9AA8-9F1960E3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EE0-C6C8-40A7-9D52-5AD2626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6605-E771-438F-ABF5-4113043E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3BFD-1CE2-4727-B5E2-8319293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092E-2ECF-465B-BB23-64AA38A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1E17-9B9B-441F-A980-904F071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8C74-A4FC-4A6A-AA47-AB999123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353-F230-407F-B408-0607FE6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34E-E2D4-40B7-8D63-42D40C8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C35-048B-42AA-AC64-5699E2D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3898-E973-4783-B5B5-F326132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9AE-EE88-4349-888C-5248E64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EC67-F8C6-4DCE-A1E3-D17C6413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D17-8E4A-4F9D-B9D0-E7FBF9A2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5B4-ADE4-4E57-BB16-D1360D95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5E8-BABA-47EA-93C7-893F96D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8D2-4AD2-4537-BD35-383CF9B0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62E-861F-4F3B-9855-69E59F53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2C9-5ED5-4380-84B8-C869FC49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98A-54F8-4BA9-BF0C-23AB115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BB2-6977-4311-B468-A29E31D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ED4-C206-410E-8A24-74D4916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8375-5050-4472-9F14-5121F79B38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4319-690F-48BF-97D0-36FE91AE01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ding What is Ne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rainstorming Ses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ow out story ide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sign the st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ow board time to think and deb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one needs to reco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idea is b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 carefully over sugg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po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need a good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out of 750 is a good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 a fair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grades – male and fem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ve a good sample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Survey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st have well-written ques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aded langu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is clever” v. “John is sly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ter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can filter someone out with ques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you smoke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king the right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confuse the person respo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ask freshmen if they believe teachers should have tenure – 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blishing Poll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t be done in a timely mann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draw conclu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 the reader draw conclu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295280"/>
            <a:ext cx="7313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Arial"/>
              </a:rPr>
              <a:t>Ready to start generating story ideas?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ws Judg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have to find what’s out the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ortant vs. not impor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s judgment is something we develop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here at O’Gorman decide what is newswort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ve for timeliness, proximity, promin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“Who Cares” Meth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need to ask who really cares about the s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no one cares, then why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ine p. 6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ve for good tas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n’t just spread the ugly ne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s judgment is intui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ways to assess what is and isn’t newswort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l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new is the new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 good to cover football in Janu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ed to focus on advance i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xi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arness of a given ev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ick with local ne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in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sworthiness of an individual or orga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t of why the press follows movie stars and celebr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qu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importance of the ev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calization – national meets loc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some scenarios where this happen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man Inter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people and how they beha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ugh, cry, feel emo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usual st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li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ything that involves tension, surprise, and suspen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gress, money, disaster, novelty, oddity, emotions, drama, animals, child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ok at the chart on p. 6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ting News Stor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t meet as an editorial 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at O’Gorm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meet in small 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ge group puts all stories toget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select final st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given stories to wr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7:54:30Z</dcterms:created>
  <dc:creator>jvanengen</dc:creator>
  <dc:description/>
  <dc:language>en-US</dc:language>
  <cp:lastModifiedBy>jvanengen</cp:lastModifiedBy>
  <dcterms:modified xsi:type="dcterms:W3CDTF">2009-07-23T18:07:44Z</dcterms:modified>
  <cp:revision>2</cp:revision>
  <dc:subject/>
  <dc:title>Chapter 3</dc:title>
</cp:coreProperties>
</file>